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11E-7F9B-47EA-B5DB-C9F6ACBF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635-2DB4-4142-AB00-351BBA5E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11F5E-8457-4666-9803-853AD1EA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0C8DC-ADE4-4601-9BB1-EA40F646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E136B-7D70-4A3D-BAFB-FA716A2F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E49A0-442A-4A1A-8313-B6398D0A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8B03C-A548-4F0F-B948-120555BF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C0587-CC0A-4F50-BC00-003623C8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AFF35-FD5F-44D8-AA51-AFA78AE9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5421B-D8B6-4962-A63D-BF67A7F3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AA9C3-BBC8-45A8-A0EF-5E51BD89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71DD6-370F-490C-B2E4-3A373515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624-078B-454E-BB10-730C366A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9BC87-DC02-4349-9F25-4844E021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3E7D9-7125-4873-96EE-2C5C2B0F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67919-B18D-4300-8149-6AA7F6E2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D06E5-2B36-4F90-AF01-34A19E7E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4B0EF-D717-4334-8D6C-5F866B54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FE235-14F4-4952-BA58-71404C22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C7538-C746-4738-BC34-72D86F6D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AD302-B945-4FC1-B5A1-90058306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F7673-B509-4140-A5C4-97CF0575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59B4D-0BD4-453F-8988-4E5CB2D8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B74-6495-471C-A3D1-49437C22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989CD-1F7B-423C-B58F-3F22606E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77B26-50B6-4F86-995F-A89E15D9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72D6E-A990-4D97-B77E-E50F4F49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E4B27-4847-4568-A040-F4AB0F0B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F7839-81A1-4311-AE0E-778CFB12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1F8D3-DC90-4C3A-8ABC-CF69B54D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56956-C6E8-4473-A73C-93919AA5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30B57-FCB8-48E9-92A9-473D8757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0B735-B26E-4EB3-B8FF-65EF0963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A1887-F5F5-47F8-8D95-F59AB9AE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ADBE-459D-4850-AF3C-B7E5A26E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2F546-DEF6-4001-891B-73456C81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AFF28-DB5A-4470-A543-1E33B453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0AD8A-E207-42E4-9D10-C0CC1C5A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FCD49-F4DD-4484-8596-518768B4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A175E-E871-467A-B1EE-DFFDD0E5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C445E-3737-40EF-A377-ACC2829C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9B6B6-A981-46DC-9636-4B900944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37294-1CD2-47FE-83DA-BA0E905A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9F903-2CF1-43F5-B3B6-2A9A4583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EE93D-6A6D-4BF6-9C30-B4F75354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8160-4BD9-41C4-BB97-956C7EAA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41674-EC04-4743-BBEB-AA444AD7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9A0E3-EECB-4312-B6DF-AFF13F58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CA600-D986-45B5-B8A0-7EE30436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07AA2-446A-40A5-853C-65C868FE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444E3-0962-460A-B185-5AF9C6C3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8F2B1-A12A-493A-974C-AA0DC745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2D95B-D369-407E-AC58-76251A6A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AFC0F-4233-4078-B585-20C3EB0A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006B8-6851-4C90-9F52-1ACA4D68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78BCE-CAFD-47F0-B4FF-108CCB5C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9D46-472F-4070-B466-C0D0CF26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EDA1C-0833-4882-9F16-7B9AC1F8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10AB54-2CFA-46A1-9ECB-151EE560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FF5E8-C417-4CD6-A111-4C1B0B0C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48790-33B5-45FD-91B3-17F44E81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1C6CCB-29E8-4CFD-BDB1-24E0B99A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AE9AD-F84E-4317-9031-760717AA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15A3E-38D7-4EA5-936E-558A9D0F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F92EC-EF41-451F-9C29-4647BFBF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87A367-FD06-404D-8E27-00D9FDCB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9C30A-FB8B-4C1C-9EBD-DE3FF0D8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CE52-5945-45DF-9B83-74276D73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24E704-53B7-472B-8612-3215DDA3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692D72-5EC8-4825-9C13-03D3935D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102B7-EEAE-4A54-8D38-5E359DD1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ED82F-C89E-47BA-8D77-37AADD59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A02867-D8EF-40E9-AEA7-27A85FB7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8C439C-18A7-4EF6-92A2-B12E066B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9A85C2-2598-438C-AF37-F7257214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15A10-9FE5-4F85-B436-6EABFF7E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B53C56-C9FC-49F0-8B65-30DE468A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ED9C7C-5DD9-4C5B-B99A-A5744FD1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0C77-1C83-4870-90EF-567F8A09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95246C-1507-4308-998B-AEE95966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B1ABB4-08A3-401C-98BE-4812E189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FF932-0851-4B67-84FD-440F077A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856850-9DF3-4DBA-AA72-321C4AC9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4B207A-BB22-4591-98C0-26787855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E980B-FCC8-4275-BC56-05CDCF4F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55618B-E7BE-4F58-A6BA-A7D64842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952B35-BC2B-457D-A100-4FA9074C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74ACE4-C43B-4EE6-9FB8-B812657D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202B39-6D6A-4E9F-AD41-51A1151A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FAA2-6EDD-4ED9-9FBE-46726792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36C11C-CE54-4DAA-ABDA-601F4C1C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872FDD-D253-4EE9-B82F-C01F78F1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981F8F-53DB-4C42-97D4-507FB903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5EB70-F9F5-46AC-BE63-D67B71DD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B5D145-E9FD-412B-98D5-38096417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564A9-4421-416A-AA04-A6642CDA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F63500-D74F-4B53-990C-62C360A2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351C65-62AB-4C56-9D12-95BF91C5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8F39F0-244E-4332-A8BC-47189330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5037ED-5A34-4ED8-816A-7E574C67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F791-EBF7-4DDD-8780-1DC66DBB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645D2F-C5D7-4094-BB23-7D3F4CDF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F8A30F-1F82-4FF2-9AAF-22546F51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4929D0-4CDA-456D-A248-369E9C16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917382-88E4-448B-BD92-AF4316F4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E0C3E1-D912-4BAB-B948-AE906A61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A9F33B-E006-4E87-9F45-589F0323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283964-95D3-4529-9A80-0653DC77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91D78E-3205-4515-8A14-70BF495C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293BA7-98FB-453E-8776-0C4C19AA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A71516-A094-4DFD-B2F6-2925CDEB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768F-17D7-4657-AC59-DE06A9D6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CB24-8895-43FD-9F75-C5440B2D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29091D-A69A-4429-BD65-1116DB9E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061DD1-917D-4E4E-874C-15CCFB44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1B49C3-B3C8-4659-9052-964CF2B2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913203-5BE6-4A3A-AA6C-38FC72CB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CFF44C-2D2D-4823-9C9D-7C2CF1FF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1604FF-9FFB-429D-BA71-A03E7BA0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7FFC04-0B2F-40F5-B9E8-7CF6618A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1F8765-9597-4F6F-AF0E-006AA825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EE3D6F-9F27-4A07-99FE-986551B9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D4F132-99ED-4A41-9DBC-CA648720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C770-65C3-4E26-A4D6-87F43C01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B16A69-A15B-466D-B829-772C426D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B68E96-E2D6-4437-ADAC-764A60AA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091508-B716-4DEF-BA31-8D5F4DA3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F21617-B04C-4D9A-B05B-00E7F26E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312C05-2121-4AA2-9963-68743244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946103-0AF8-48CD-84FF-48E774FB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111445-E91C-4411-9BE8-D036F7B0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6FB05C-9BF1-40D7-96C9-EE075418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E3EEFF-0614-47F6-B500-52107546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2B3339-4003-44EA-AD60-AF32D032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32C0-9242-4603-B18F-4DDD1A9F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CD2D16-CFAF-4234-A861-A11F96B4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B234DB-2CCB-4348-9D1D-EC5BAD40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324F44-FBF4-452E-887F-6E0630AF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E97191-AFFE-4461-AF25-873DBD38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4DF50B-7333-4427-B961-60A5890A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F9D18D-CB3C-4DF8-9631-50D5C8E5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70A8D0-352A-4046-95F5-58D038C8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D2209A-F52C-4EF6-8913-1C37F409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7875D3-CE52-4AAA-9FF7-3502ED88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4CED3C-8006-4481-918B-98B421C1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36FA-735A-4BEF-AE33-E30F6F25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859317-E3F9-4CE5-B761-A0E5DFBE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54ED09-A398-4F6F-87FE-5F922515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76BBB9-3EF6-440D-9C60-200050CA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367E9B-65F9-412D-A8A3-23953E8B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6D1D5B-7DF5-4D26-AA9B-8C02507E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504194-652C-42C1-8B59-75192040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1858F4-21DA-4AA2-AE1E-5FDEF263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C0EE50-67E4-4A92-82E5-2274C682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ED0307-4264-4DB7-A681-067EA8F4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7547BC-F546-47F5-B44B-E14E0C7A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AE74-6727-4201-9694-F5B76679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3D0A63-F345-4B35-AA0D-675193F3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61B8FA-6523-404D-9663-ADC11E36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27B982-CA18-4B49-8CAA-F5894829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1DE587-7896-435F-8674-91502EC5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F3F90A-EE37-4782-8790-4ED94131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6CF9C9-031F-4747-BC8B-625EBFB9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7A79D7-3755-4BE3-9457-6E9D79FC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6E1721-63F4-4FE4-A39D-6DA6745B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E5E9AE-D565-4450-A619-3E4E7503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231155-88F1-4054-838F-4D3179CB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E0C7B-5AAB-4AF4-811B-1CBA4BCE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B541AA-6EB5-4CBD-BA77-90337633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145F52-54A2-4163-8AB0-3E1263D2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9C4350-BBF0-44FC-8934-42F31CC1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BFCCB-8405-4EB9-8FC3-02FBC8E6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E48A4-A57B-4191-BFE8-8F6FE828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DAF57-FF51-40AF-BBE3-84CABF26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F264C-6AD0-419C-8415-82033889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DCC-B6CC-4875-8F89-A90EDF42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53236-FC33-4457-BA43-83634897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A22D5-598C-4ACA-9A98-0EB5465B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4B827-C775-4FD3-9B47-5A747C49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DA106-C133-471A-A01C-9A968D3D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76C28-6C01-45C4-A79D-2EFCD782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B2D48-0050-44B3-8FD3-294ACA8E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98E8A-43AB-4FB9-83F2-0B1E3588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BF0AD-D3A5-47AD-8922-B2C37E8B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66EAE-6D25-4312-9203-16822D8A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3CE5C-E814-444F-9973-D21F7EF6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0DA-D611-4061-9FF9-2BBD07DA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BC0F0-B862-4DD9-9972-958D38FC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C4D1B-3CD6-493E-89FF-E0E8FFFF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97918-F30D-4474-A289-F4499A59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38034-D2A3-4CD6-B65B-5B8445AA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4B4E9-3E75-4769-BB1B-0BF99756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1D473-19C3-4C57-8700-EF6552D0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32FC8-066A-48C3-929F-F93880BF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DD707-43FB-465A-A70B-AB87C7DD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12F7F-FF36-4A50-A0E7-A1AE1CCD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C3382-D10C-41D2-98E3-5EA4BC28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42C-A965-4E60-88F4-62C17C96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4E460-4CC5-4CF9-8B0D-C4DC581C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E2205-0EC7-45CF-BAFE-C6D72A01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B1C90-47C7-4044-9B26-7F71B3A6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85BE1-C2EA-4DAD-82ED-A4C3D84A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FE413-661F-4632-9531-D530B4DE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BD118-792A-4453-90E0-523D8ED1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954D1-FB03-4168-91A5-AC0DC5A3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07AEE-3C6B-4897-B321-FE3BF8ED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0298C-361D-443B-BE9F-BE89B2F9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81DFE-1E80-430D-ACF9-5CFD0A47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8B0-F2D1-4E21-B6BF-AB248215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DE6CA-EB08-405B-A63C-89223FE1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29297-6A24-4B51-BE83-EFD79C61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5D3E6-79E3-4AF4-9209-AAE6BE7A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BE2D3-B3BB-4747-A641-5D9ACFEB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61388-C744-40D3-8589-496DA25B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258B4-D917-475D-B106-ECFB811F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9128C-F8C9-4569-B19E-9955C978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3F1F6-718E-4D12-9C4A-ACFCE801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33289-4411-4CE6-8CB4-05303EFD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B092C-9D09-44A4-A9F4-6DC1E2F0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AA12-E37E-4977-A1E8-540DDE86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35E69-083F-4DC0-AA62-78465782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8BC13-C0C7-49A5-B8F1-BDFC8CC9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39B5E-AAA1-4B34-90BF-81EBE916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3C1E4-54D7-422A-AE3B-DA071F6D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BB9A6-E605-4749-A142-351EBB8E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6F927-9247-4490-911A-CFAEA6C4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96310-2EC2-4B26-8D6E-C92859F7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A4863-3112-4C2B-9AC8-7DC05C71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EA688-2643-443B-B6C1-5868394C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09D01-2B19-44B2-95E4-4BD9BC6A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9D0-632F-4713-8CEB-6F1F80B5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159E9-6F12-4914-BF72-48A02078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2C842-2DC5-44ED-970C-6CB89561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150B0-9A5A-496A-A9A7-1476409F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4A8A9-B51D-4EB3-91B1-90A7C31F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390A7-DB97-4FAC-B7CE-20F4B6A2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48B7C-37F8-4FF3-B291-4795B589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2C6EC-0696-43A1-951C-C0BFAA8C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9057E-E92C-4867-8EF6-426C869D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5E880-4093-4DF0-978A-AEC5D3EC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11B17-35AD-48CF-B5B1-53CDA5F6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2CCC-F2BB-4DFF-A75E-B404572F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0CF61-EBDE-4D66-9120-0BBE3B4D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4EB09-FF82-4B61-891A-1AC236D7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AD539-3B2C-461F-8E02-2EE71DD3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430B1-40CE-4A66-8567-22FEA4D0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1163E-D2E5-4864-9F2E-6C8FD623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4B238-F190-492C-B032-66B58D2C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28942-9B49-46FC-B90B-B5847538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A022B-2B11-4EB2-B6B9-E8FD2D93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A71AB-9C01-4346-9EA4-617149AF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D11EE-634D-4962-BFED-A562DEDF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3E9D-A9D9-4E21-B807-40E0396BD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115E-20F3-4667-82F5-5846F229E7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AB8B-FCC5-40EB-A52C-59EE7BD260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6D42-2E76-4217-940B-C4724CA76C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6861-3344-4B5B-AE31-A693817D1E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931D-E460-4031-9935-F6AF65C4B5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EBB1-14FB-4E54-AD0A-94A1FCB0CD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FE11-0D7C-4AF6-AA0B-DCBCC4C7F2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E9EA-7C90-4CDA-A6CD-BA04D578E5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7D5D-CF5D-4CD4-8012-70FCABACB0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1D74-B186-4946-870E-05F6A32274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A04A-C593-4D50-9A02-A2CFA68649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6444-D72A-4AFA-B43C-F88277F335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8BB4-BE0F-42DB-A2D1-C9F95B48C6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688F-0EE4-4EFA-804E-80216D62D1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FA81-961C-415C-8CDC-83E616D4F8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8EA4-C3C9-43C7-A50C-09BE6F4423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1D90-380F-4AF8-AEDD-E9559958EA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6F87-B09D-4D2E-9C74-038B209CA2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D2D7-BEDC-4481-949D-AB11C2BB23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7100-0F67-4E17-B640-E0A0E9A7AF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BF80-F26B-44A3-AA61-40094FA4B1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703D-AF25-45CD-9EC4-864FE3D55B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87EE-C88E-4FB9-AEE5-5376B4C375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2226-5D60-4149-A912-FC8CB7DD14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9E61-CFD5-4913-9FAF-0CBD2C7827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94A6-E2B5-4333-94B0-E52673BBB7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E972-5CE4-40AF-BF39-50306431E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0659-D0FA-48AF-900F-25F21743CC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2053-E33C-4643-85C2-D82EB6EB74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DC2B-FC01-422E-9424-CD5E0E5F9A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F61B-2710-4A94-BFB7-5210595158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D4B7-6C69-4046-9932-43912B6F3D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9C06-E7E6-4C12-A6C5-010DA2B39E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6B67-980D-4B8E-9BC5-A39770252E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DE31-6102-49B2-82EB-66A8B8FE50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A480-FA46-49AA-B982-EE7A88891F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010F-A6A6-4F56-B4DD-3D0B5B4572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266E-35A5-44F6-A768-C4760B6396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D746-86B0-4C7F-83D9-E98438FB60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22400" y="2843280"/>
            <a:ext cx="8842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3" name="图片 1" descr=""/>
          <p:cNvPicPr/>
          <p:nvPr/>
        </p:nvPicPr>
        <p:blipFill>
          <a:blip r:embed="rId1"/>
          <a:stretch/>
        </p:blipFill>
        <p:spPr>
          <a:xfrm>
            <a:off x="57240" y="870120"/>
            <a:ext cx="9029520" cy="55339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2"/>
          <a:stretch/>
        </p:blipFill>
        <p:spPr>
          <a:xfrm>
            <a:off x="4427640" y="4235400"/>
            <a:ext cx="1439640" cy="4492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3"/>
          <a:stretch/>
        </p:blipFill>
        <p:spPr>
          <a:xfrm>
            <a:off x="2916360" y="5848200"/>
            <a:ext cx="1439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8" name="图片 1" descr=""/>
          <p:cNvPicPr/>
          <p:nvPr/>
        </p:nvPicPr>
        <p:blipFill>
          <a:blip r:embed="rId1"/>
          <a:stretch/>
        </p:blipFill>
        <p:spPr>
          <a:xfrm>
            <a:off x="409680" y="1133640"/>
            <a:ext cx="8324640" cy="45907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4356000" y="1154160"/>
            <a:ext cx="151128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2843280" y="1959120"/>
            <a:ext cx="33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2843280" y="2751120"/>
            <a:ext cx="2089080" cy="4492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5"/>
          <a:stretch/>
        </p:blipFill>
        <p:spPr>
          <a:xfrm>
            <a:off x="5580000" y="3557520"/>
            <a:ext cx="1440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571680" y="984240"/>
            <a:ext cx="8001000" cy="5477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562040" y="1989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619280" y="364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619280" y="5229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852480" y="1771560"/>
            <a:ext cx="7439040" cy="33148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1187280" y="350028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023840" y="942840"/>
            <a:ext cx="7096320" cy="57056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2050920" y="1989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2050920" y="4365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1052640" y="1062000"/>
            <a:ext cx="7038720" cy="47340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1476360" y="3645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1233360" y="2338560"/>
            <a:ext cx="6677280" cy="21808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547640" y="2475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28440" y="692280"/>
            <a:ext cx="7790040" cy="300024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2" descr=""/>
          <p:cNvPicPr/>
          <p:nvPr/>
        </p:nvPicPr>
        <p:blipFill>
          <a:blip r:embed="rId2"/>
          <a:stretch/>
        </p:blipFill>
        <p:spPr>
          <a:xfrm>
            <a:off x="800280" y="3692520"/>
            <a:ext cx="8265960" cy="30178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5292720" y="31273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3564000" y="36734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6012000" y="450864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6"/>
          <a:stretch/>
        </p:blipFill>
        <p:spPr>
          <a:xfrm>
            <a:off x="4572000" y="53150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7"/>
          <a:stretch/>
        </p:blipFill>
        <p:spPr>
          <a:xfrm>
            <a:off x="5076720" y="61070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95400" y="1109520"/>
            <a:ext cx="8953200" cy="46389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1619280" y="2909880"/>
            <a:ext cx="640872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1763640" y="5200560"/>
            <a:ext cx="4464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图片 1" descr=""/>
          <p:cNvPicPr/>
          <p:nvPr/>
        </p:nvPicPr>
        <p:blipFill>
          <a:blip r:embed="rId1"/>
          <a:stretch/>
        </p:blipFill>
        <p:spPr>
          <a:xfrm>
            <a:off x="447840" y="1155600"/>
            <a:ext cx="8248320" cy="53532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2"/>
          <a:stretch/>
        </p:blipFill>
        <p:spPr>
          <a:xfrm>
            <a:off x="1116000" y="1960560"/>
            <a:ext cx="4392720" cy="449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3"/>
          <a:stretch/>
        </p:blipFill>
        <p:spPr>
          <a:xfrm>
            <a:off x="1042920" y="3557520"/>
            <a:ext cx="4392720" cy="449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4"/>
          <a:stretch/>
        </p:blipFill>
        <p:spPr>
          <a:xfrm>
            <a:off x="826920" y="5950080"/>
            <a:ext cx="4392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6:15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